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15F-21D4-4504-AF1C-952EAB34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D7D-9FF7-4EF8-99E1-F4D33143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B82-A344-44C0-91D6-2F1048DD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926-4976-4108-BFA0-C482267D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BEE-DCBE-497C-9EA3-84A2CA09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C26-55FC-4CF9-8392-26D8345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351-34C3-4243-89BE-4B5E5EF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B9A-CF3F-4156-8A0D-1D1C958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6D1-12E3-4434-BC75-BC7F903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351-3765-43D4-A4B0-8442C90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162-30CC-4DDB-B2B1-11A1462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9DE-D6F6-4A26-8829-81E4F35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560" y="640044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NASA Workshop on Gravitational Wave Mission Architectural Concepts, Linthicum Heights, Dec. 21,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EB3D-3366-4D67-B8D1-D5A875603F71}" type="slidenum"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conducting Antenna Concept for Gravitational Wave Radi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 Gulia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. Forema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 V. Nikoghosya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,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S.  Nussinov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,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                     L. Sic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 J. Tollaksen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hapman University, Schmid School for Science and Technology, Orange, CA &amp; Burtonsville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ependent Researcher, Alexandria, 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Physics Research, National Academy of Sciences, Ashtarak, 0203, Arm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chool of Physics and Astronomy, Tel-Aviv University, Ramat-Aviv, Tel-Aviv, Isra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3440" y="5643720"/>
            <a:ext cx="8715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ahoma"/>
              </a:rPr>
              <a:t>ITAR Disclaim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ahoma"/>
              </a:rPr>
              <a:t>This presentation does not contain technical data per 22 CFR 120.10–distribution unrestricted w/o 328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3E8-1A8E-4A55-9751-01C6FE1317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38862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=1 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=5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400" spc="-1" strike="noStrike" u="sng" baseline="-25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/(2R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~10</a:t>
            </a:r>
            <a:r>
              <a:rPr b="0" i="1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16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ID noise flo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fT/H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0" i="1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-17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/1 day of measurement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dom to exploit, say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QUIDs for different groups of layers, and/or get to weaker GW source detection, and/or reduce the observatio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ad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800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00200" y="1211400"/>
            <a:ext cx="5866920" cy="2293920"/>
            <a:chOff x="1600200" y="1211400"/>
            <a:chExt cx="5866920" cy="2293920"/>
          </a:xfrm>
        </p:grpSpPr>
        <p:grpSp>
          <p:nvGrpSpPr>
            <p:cNvPr id="140" name=""/>
            <p:cNvGrpSpPr/>
            <p:nvPr/>
          </p:nvGrpSpPr>
          <p:grpSpPr>
            <a:xfrm>
              <a:off x="1600200" y="1211400"/>
              <a:ext cx="5866920" cy="2293920"/>
              <a:chOff x="1600200" y="1211400"/>
              <a:chExt cx="5866920" cy="229392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"/>
              <a:srcRect l="13740" t="16231" r="17295" b="17591"/>
              <a:stretch/>
            </p:blipFill>
            <p:spPr>
              <a:xfrm>
                <a:off x="4214160" y="1217160"/>
                <a:ext cx="3252960" cy="228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"/>
              <a:srcRect l="36201" t="28136" r="27701" b="25738"/>
              <a:stretch/>
            </p:blipFill>
            <p:spPr>
              <a:xfrm>
                <a:off x="1600200" y="1211400"/>
                <a:ext cx="2381400" cy="22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flipV="1">
                <a:off x="6073200" y="1520280"/>
                <a:ext cx="11628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131160" y="1577520"/>
                <a:ext cx="580680" cy="1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14000" y="1350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938920" y="167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AC6-6E26-432E-8813-06307163AB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oise Floor of the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447920"/>
            <a:ext cx="7467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noise floor of this antenna is due to normal res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notes are important he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l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normal fluid (and its influence) dies out exponentiall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dwidth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be made narrow for periodic signals (large integration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r estimates indicate that achievable noise floor is abou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0 fA/Hz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nspires optim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419720" y="2286000"/>
                <a:ext cx="33526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δ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00200" y="2590920"/>
            <a:ext cx="2362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36720" y="2514600"/>
            <a:ext cx="6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819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666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8EE-3385-476F-B157-3F5B4DA8A3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elaborated a novel concept of the GW anten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see no showstopper for this concept and wou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experts opinion on its viabi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efully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 parall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other large-scale efforts, su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LIGO approach and LISA mission or N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ational initiative, the suggested concept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ome useful for one of the most challen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s – the detection of gravitational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cannot build it, but NASA c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06A-3A85-44B4-89FF-745134672A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15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vel concept of superconducting GW anten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resonant, applicable to wide spectrum of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sensitiv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2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;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2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ate volume: 10 m lateral si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 cooling below critical temperatur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conducting components far from the Su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energy consumption at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or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unrestricted operational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C2C-12E6-4094-A77A-58739827A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934320" y="2590920"/>
            <a:ext cx="1295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arting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58128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dal force tends to accelerate back and forth from C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hange interaction prohibits ionic mo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lomb interaction prohibits electronic mo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101600"/>
            <a:ext cx="2361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=L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3302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3302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6351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9860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95040" y="91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9560" y="914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2680" y="213372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step: metallic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2743200"/>
            <a:ext cx="3733560" cy="533160"/>
            <a:chOff x="685800" y="2743200"/>
            <a:chExt cx="3733560" cy="533160"/>
          </a:xfrm>
        </p:grpSpPr>
        <p:grpSp>
          <p:nvGrpSpPr>
            <p:cNvPr id="58" name=""/>
            <p:cNvGrpSpPr/>
            <p:nvPr/>
          </p:nvGrpSpPr>
          <p:grpSpPr>
            <a:xfrm>
              <a:off x="685800" y="2743200"/>
              <a:ext cx="3733560" cy="533160"/>
              <a:chOff x="685800" y="2743200"/>
              <a:chExt cx="3733560" cy="533160"/>
            </a:xfrm>
          </p:grpSpPr>
          <p:sp>
            <p:nvSpPr>
              <p:cNvPr id="59" name=""/>
              <p:cNvSpPr/>
              <p:nvPr/>
            </p:nvSpPr>
            <p:spPr>
              <a:xfrm>
                <a:off x="4190760" y="2743200"/>
                <a:ext cx="22860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38080" y="2743200"/>
                <a:ext cx="350532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5800" y="2743200"/>
                <a:ext cx="228600" cy="5331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3733920" y="2895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895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038120" y="30128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0720" y="3012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39720" y="2759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743200"/>
            <a:ext cx="3733560" cy="533160"/>
            <a:chOff x="685800" y="2743200"/>
            <a:chExt cx="3733560" cy="533160"/>
          </a:xfrm>
        </p:grpSpPr>
        <p:sp>
          <p:nvSpPr>
            <p:cNvPr id="68" name=""/>
            <p:cNvSpPr/>
            <p:nvPr/>
          </p:nvSpPr>
          <p:spPr>
            <a:xfrm>
              <a:off x="4190760" y="2743200"/>
              <a:ext cx="2286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080" y="2743200"/>
              <a:ext cx="35053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2743200"/>
              <a:ext cx="2286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73392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038120" y="301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990720" y="301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9720" y="275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5029200"/>
            <a:ext cx="2286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029200"/>
            <a:ext cx="3504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5029200"/>
            <a:ext cx="22860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1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191120" y="5299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029200"/>
            <a:ext cx="18288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5029200"/>
            <a:ext cx="228600" cy="533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1814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828440" y="533412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8720" y="5756400"/>
            <a:ext cx="361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metallic bar, negativ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900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590920"/>
            <a:ext cx="1143000" cy="3352680"/>
          </a:xfrm>
          <a:prstGeom prst="rect">
            <a:avLst/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1880" y="3809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363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41911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772400" y="3504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60958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BC1-F99C-41D2-BA22-163D66B526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ext Step: Closing Current Traje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2120" y="1219320"/>
            <a:ext cx="2895480" cy="2743200"/>
            <a:chOff x="762120" y="1219320"/>
            <a:chExt cx="2895480" cy="27432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rcRect l="21921" t="9197" r="32429" b="33207"/>
            <a:stretch/>
          </p:blipFill>
          <p:spPr>
            <a:xfrm>
              <a:off x="762120" y="1219320"/>
              <a:ext cx="2895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274120" y="1967760"/>
              <a:ext cx="473400" cy="40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8160" y="2499840"/>
              <a:ext cx="473400" cy="4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rcRect l="29382" t="30073" r="28701" b="48226"/>
          <a:stretch/>
        </p:blipFill>
        <p:spPr>
          <a:xfrm>
            <a:off x="762120" y="4514760"/>
            <a:ext cx="2895480" cy="1123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03880" y="1219320"/>
            <a:ext cx="4054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design brea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omb blocka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two half-periods electrons will now move clockwise and counter-clock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4815000"/>
            <a:ext cx="36691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supercondu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B13-8BDD-4FD2-BBC0-12C27D0297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hy  Supercon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7652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 of electron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micondu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rmal metal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 sometimes called “free”, is Aristoteli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ersists while the force is acting. Ohms law: j~v~eE~F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~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.e.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locity in response to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condu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/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~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.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otion is Newton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difference has crucial consequ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/C current response is greater by a factor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0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 or more orders of magnitude more than justify 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 to pay: no negative masses for SC. Cooper pairs have positiv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95C-0DAE-4839-8E64-B119D811BF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24080" y="91440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f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gt;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dal force is ~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leration ~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rque ~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A(B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ensity of carr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ext Step 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480" y="1143000"/>
            <a:ext cx="2210040" cy="2209680"/>
            <a:chOff x="609480" y="1143000"/>
            <a:chExt cx="2210040" cy="22096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921" t="9197" r="32429" b="33207"/>
            <a:stretch/>
          </p:blipFill>
          <p:spPr>
            <a:xfrm>
              <a:off x="609480" y="1143000"/>
              <a:ext cx="22100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63640" y="1746000"/>
              <a:ext cx="361440" cy="3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9120" y="2174400"/>
              <a:ext cx="36108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3581280"/>
            <a:ext cx="7543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ject to electroneutrality (which imposes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const)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electric curren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43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295280" y="4648320"/>
                <a:ext cx="65534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j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ωh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821880" y="57150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side length of antenna, S is its cross sec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FD6-5272-4D47-93E9-E5BBC73A9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447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=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=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resultant current is about femtoampere for a wave with amplitud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2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frequenc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H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will be the same for a given value o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For example, at 100mHz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 f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ields   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~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-2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looks encouraging, however, there is still a problem we will address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imates of Antenna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F35-3B55-45C6-889D-E42BAF1D15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3200400"/>
            <a:ext cx="6934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f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m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 n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&lt;n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ductance (Magnetic Energ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52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14400" y="1265400"/>
                <a:ext cx="25909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6338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2209680"/>
                <a:ext cx="60958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S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7148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0720" y="3886200"/>
                <a:ext cx="44701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S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92440" y="5429160"/>
            <a:ext cx="60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to neutralize magnetic 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EF0-AC4B-42F3-85B2-6E70A73769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5638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paghetti” 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1929" t="21003" r="21776" b="26504"/>
          <a:stretch/>
        </p:blipFill>
        <p:spPr>
          <a:xfrm>
            <a:off x="380880" y="1565280"/>
            <a:ext cx="3810240" cy="217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35402" t="28136" r="28102" b="26000"/>
          <a:stretch/>
        </p:blipFill>
        <p:spPr>
          <a:xfrm>
            <a:off x="6858000" y="1582560"/>
            <a:ext cx="211788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36201" t="28136" r="27701" b="25738"/>
          <a:stretch/>
        </p:blipFill>
        <p:spPr>
          <a:xfrm>
            <a:off x="4495680" y="1600200"/>
            <a:ext cx="2210040" cy="21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12799" t="8562" r="53913" b="47407"/>
          <a:stretch/>
        </p:blipFill>
        <p:spPr>
          <a:xfrm>
            <a:off x="762120" y="4125960"/>
            <a:ext cx="1600200" cy="1589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9720" y="1066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yers with A and B sw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64832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s move in opposite directions and cancel the magnetic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spaghetti dep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geometry; large but reali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886200"/>
            <a:ext cx="205740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8E0-1162-4535-A5E3-1A9E92168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4:44:51Z</dcterms:created>
  <dc:creator>Armen Gulian</dc:creator>
  <dc:description/>
  <dc:language>en-US</dc:language>
  <cp:lastModifiedBy>Armen Gulian</cp:lastModifiedBy>
  <dcterms:modified xsi:type="dcterms:W3CDTF">2011-12-21T11:13:43Z</dcterms:modified>
  <cp:revision>121</cp:revision>
  <dc:subject/>
  <dc:title>PowerPoint Presentation</dc:title>
</cp:coreProperties>
</file>